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86E-A388-468D-9F68-EA44B8FB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684-75F2-4410-A29B-65FA390E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4028-2ED5-4077-8862-B9A17763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86536-2342-4B64-BB2D-0BF31197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41CC-F287-4A37-8617-AB7BA70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97937-09EF-48E8-9EAE-94822FF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5B550-21A7-4D5A-8387-85A31BD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0369E-6607-4FAC-B813-FFFF1AD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0B58-B929-4732-9796-425E1234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45DD8-5E0E-4600-8BEE-2ECA7382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7F4B7-D42B-4A97-9D0E-36F9DF21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67CD-3A19-40DA-A31E-67925163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CCB-DF69-4247-8CB5-DB223029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4F73F-8E58-423B-A3B6-BB4C4B6B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9F94E-C98A-478B-ACFD-30D3120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FA511-80DA-42B4-A541-35119B7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29CD-28C4-4AD2-A507-39B6462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D4330-37FE-4588-946C-71C87E2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1AA38-1B77-4B56-A81C-3D0A32B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A1DFB-477E-4951-BA6F-A2C886A6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57DB2-957C-4D78-AAB3-0425508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EBD66-49D2-4291-9997-AC777010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19CB5-81B8-4183-982D-2920E527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A4C-D592-40FA-8BEA-E946A663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EED32-1801-4021-8439-BC0A07F7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E510-D2B8-4329-A38C-F0DFEC70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DAB1-4DC7-4915-8986-43781B4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6B2B-F622-4166-BB5C-C59A0DD6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C11F-9341-4F3D-A107-17FA322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59B8C-8637-4780-A29A-D27B61F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5A12-4382-47E9-A624-E483E32E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9CAC1-A169-404F-B2B4-9EADC36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05F7-B34B-4C48-8540-88CF539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88914-A609-410F-9374-7E3D7C4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5055-8F7B-4E9C-9A93-BE675D72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E9149-F650-43C8-B9AD-C98E3B66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ED929-3A03-498A-822B-10D3BDD2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80FF2-7013-4482-B566-38C301FF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D2274-DB54-4B3A-A4BE-2575AA3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222F-A1E0-4E5E-B34F-6DAFC91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2214D-C348-47BA-B695-5FBB58BC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34B71-6243-45CA-857E-42162C3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32346-C3EE-4377-A096-051E53F0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97365-08B4-4DAE-AEAA-346D984F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FE9AF-40A1-4B82-AA98-59E8515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3FA7-AB58-4E6E-AF7B-7B91E618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BEA0F-B43D-4CD3-8780-F7EB3D1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8290C-04F1-4CE5-8B6F-056D4E5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FFD7-0391-4EAB-87DE-9F0F7E96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029B-6C0D-488E-941F-4CDA5969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FA45-C579-4865-AF4D-B6CDA174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86BBF-F6BB-4EAE-805C-66510C78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A7385-A5DD-4FBB-A7C4-5F503A7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E0087-236B-49DB-A8B0-F00AA7AD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7D83A-B246-499B-A0D9-8211B876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4B8BF-65FE-4467-ABC1-EB53BE0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1BE5-030B-4B63-829A-38534E5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8C0B3-D568-4FD6-82DB-47A233A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7BE84-3C7B-4F93-B0D4-729744D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F5A25-3766-4028-827E-ED34F07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EC066-F20A-4637-9B5A-5F50B66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8760F-AC74-4928-85D2-248B846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D3551-97BA-4E5B-B23E-26B94F75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129B0-2C52-4031-B8BC-7492EC71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C9B53-6247-4AB6-AE63-C1140D89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BF566-CF26-4347-B1E3-4A280A90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C3744-5316-489D-AADE-C8F3919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56C-0377-459B-9E2E-839F48D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C15D9-A37C-498D-B8F6-E18D2312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27289-919B-45D6-AB2E-CF2F264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B8445-7EA1-4021-AAF4-0F713406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BBA1A-6EE0-4132-B1F6-A414011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E2B7D-4E1B-4668-B73B-173D6A7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D1C70-3641-40B4-9143-2E3BBE7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95AD5-D1DA-498F-A735-03D68C9C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F740D-AB3B-4321-93DE-65F224B2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D06B2-4D9C-410E-8A1A-8FB096B1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E57BC-BD5E-4506-96FD-68E9192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B4F-C781-48FD-8A4C-5427218B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23468-F938-499E-83A4-A4F6AA5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A4A9E-8845-4F95-A28A-6B5475A8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8AB5D-504E-4865-A265-6B32D75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F9E74-9454-4664-8BF5-0DB7725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3A0E7-F91F-45B3-A381-3F3A083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00687-6641-43DB-A912-25417E4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E39E4-7ADD-4565-8232-DDA5933D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54496-71EE-47A9-A2F4-3A4EEE2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C3C16-4A08-4917-9DB2-5CCF2EF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A75D0-EC51-4228-9063-F7978060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211-B819-4AD0-ADF5-E4C13B8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0291A-5A31-4193-AAB4-5B951842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AFA5F-2E91-4322-88B8-72D702A7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7B7A0-5E5D-452C-84B6-6B3640F4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99EF7-AEC5-49B3-9E4B-75D615F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1AB34-44D9-480D-9949-31764351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AC0DC-68DB-47D7-872C-6D38A9D2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D602F-BF20-40C3-A623-F8D9749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1F7D4-8E72-47D8-9B8C-B59D2B5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3290D-F8CE-4760-8693-8B25C99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90F22-8F0C-4FF1-8C09-9B14908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A494-822B-4C8D-8D86-49EAAFD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C1E21-1F17-427E-BEE7-06E95F14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B4E8F-4EC6-4D5E-8FAC-72A72755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56724-07CA-4CCB-99E4-3E1B64FC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0AC5A-D4C9-4405-B834-C18A2FC4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C07D7-00D7-4580-AF2B-C4B35D3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22818-5BB3-4226-95A9-7DDCDBB6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FE339-F021-4BB3-A58C-51C31D09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204F9-A97F-4C40-919E-7002856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995EC-5D43-4C50-89CF-ECC13050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B2CF0-97F0-43BB-B732-99D87665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8F0-C33B-41F8-8DAA-EA3A311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8E7-49EC-4B5C-B803-16729D9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9ABDF-4502-41EE-9D7F-7497FEE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AA7A7-56AB-487D-B788-1DABF24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6B836-C38D-405E-9F42-E5EBA16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11F31-A4DD-4349-A565-A56CED1B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D341E-1257-4EC4-829A-E56A6B95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13791-09DC-40A4-AD1E-1261B11F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C2DDF-8474-4C95-83FD-8FFC549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69F6D-29FE-4B0A-998B-DEABDE2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12464-493B-4459-AED0-E360FC5A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26A6E-6809-403A-BB9A-E0ABF1D7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645-F441-4F55-A4C0-CAC8E58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2C336-E260-4344-AF3E-4096DFF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707CC-291C-40B6-973E-3A5058F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C2071-E257-4B42-BE8C-46CD665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7DAC8-7378-4FB2-A732-A466E59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F6ECD-985E-464A-A530-9353B300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0042F-D3F4-4224-ABA4-64EFC6E6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0482E-BA19-4864-8AC7-BF65857A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6CAA4-5B87-4306-B7C1-E570D69F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2EEE5-8837-4199-9E79-51B3FE2B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E570E-FD8B-4425-9700-605483E4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70F-117D-4F16-8691-2242D0BE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75B39-EDDA-4E51-A878-F263091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28AEE-9F88-4F92-B419-FACDA936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0A859-63F7-42B2-B3CB-A077A0C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79909-BE55-4251-91DA-E248250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9C5C5-144B-410A-9971-D026671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AD6EA-555E-4782-9FAD-49D719A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6279D-DEBB-4349-86B0-447B7AF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75970-1B92-48CB-8C88-DD5DC114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BFE39-2F47-45E6-B334-B3201AA5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5A930-818E-4D0A-80B7-809A8FC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2CFD-72FC-46C5-A6ED-06A4AE32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90774-DC3F-41C0-8F40-297994E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0F72B-E2BB-4273-A631-6C33272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9C83E-229E-4267-9A8C-F99C54A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32F08-634F-4912-9639-E83143E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6090C-EBCE-4213-BCF7-8D39FD2A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0E8F2-0909-4829-B8CC-1048BE8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54484-9122-4338-8F3E-581CA8B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E4632-3A95-4452-B77D-F50B930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A8AE2-64C1-44CD-B5BF-52DF2F4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4121F-34B2-43C1-B525-8BD51B7D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FB7-9ADA-4CEE-B152-0E82717C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D98DC-E1F5-4E7F-8C3B-423ADEA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550B2-83B7-46D2-A69E-94FC9BD2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52136-1CD0-41C3-9F20-9138A11C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612A6-4B4C-4362-8D4F-D274159E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5484D-4DBC-4115-A704-AA02B9FD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2D316-5FAC-4626-88BA-CC50710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B5CE5-6BDC-4196-AF9A-140ADAA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CD56F-CA6F-4762-8DF5-DAF25F6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426C9-D76B-48E1-9669-EA74753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B1044-6E14-4A39-8A1E-48D3F2A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A55E-ABD2-4628-A981-FEA4A49E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AED70-A9B6-47BD-A778-ADDCEA4B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537F2-E9C5-4C7A-935F-439C16FB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471F1-EACF-4751-AEC9-961C11E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2FE9A-5D26-4E03-B961-88CEC01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D0778-5FB0-4D59-A0E5-250E1911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23B733-30AA-48CA-8571-2102837C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9B7D2-3937-4488-92EA-B643420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E231D-1FE4-4891-98CD-1BA1E16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9D37FE-2FD9-46C8-8906-C982F68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8AFC4-B888-4889-9E86-E9B07D7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6405-7ACB-4A64-BC22-8E40E45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DED1D-B7F4-4D86-8818-8860B4C4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6F87C-066B-437F-9DDC-3BECDA5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6B0AB8-8504-4BEB-8B0E-959CC96B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103E81-E572-44D5-9F06-5A7BB5C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D7403-C97F-4D8F-8D4C-ABA409BA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4086A7-126E-4DCE-A611-390456A8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1DF8F8-180E-439C-B3C3-D0D7C44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E7268-D166-482A-930A-27CE64AE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0672FA-C42C-42C5-9EB5-4D2539B6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06BE3-FDFF-42C0-8423-9D1A3F1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AA7F-6579-493E-9DE4-F353FAD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6AA98-8792-46D9-8E0C-C0E1397A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23DCB4-1ED2-4C48-A781-4A14EE7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F09DD-8B5E-4D16-BC6D-133C398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B079B-CFE5-431E-ABA9-C493549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539EF9-C260-49A1-B6B0-85EF084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DF90F-40DD-4859-9D43-20805EA2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6574E-FDBA-4AF1-9F70-9957ED8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ED45-B9A9-42F3-8203-672ABE7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111F-836E-4931-99C5-858BE66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B8D-CCA2-4906-8CA4-4B61C49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228B-5ECF-4F64-8A9A-765B6B49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BBB5-1557-4DFA-9FC7-1722847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02A4-8CAD-4A90-B6C0-FA045B4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086E-A2DF-4D01-9009-F090005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4AE6-B425-4FCA-9207-593DF5F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1956-F9B1-46A3-A47D-5E3E217B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1F61-8C39-4787-A1EE-3A0FD694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C8FD-FD84-438B-A0EA-E91C4577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4731-AE6F-4629-91F1-1C632F83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F0D7-9A95-4164-9CAA-9DEC5E7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E19-DADE-4D74-95F5-53A30C24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BA03-2C07-444E-AB40-784BD0A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2DA7-A3D2-4988-BECE-E55B42A2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9A3E-1013-415C-AE22-C74BC09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78D06-55AA-4E89-A209-D8B6ADE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4ADC-1EBF-4E5B-993B-800ADF3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EDD4-54E8-41D9-959D-74F7D08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303A-971D-4A35-9E65-BFB3BAD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6787-0654-458D-B48F-EE910D4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AA27-DC74-46A3-BA65-9C36085A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7D91-D689-4EFD-9D2D-E2C7E90B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3AF-B05A-4E8D-B1CB-0CCE416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CD20-FCC2-4F96-82BC-A3031C4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C78B-B998-447B-9B33-EBFC76D7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FEBB-EC65-43E4-8A66-B704C0B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4BAD4-41AF-4CC8-BFB5-3B9956F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8D95-8583-442D-8EDC-F4EFFCE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56A0-0069-45BE-894B-FECB2435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5E77-69A6-40DB-9339-2FBDEFC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177E-B11E-44C1-A60C-2906A50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025B-17BF-440F-A93F-2C0B420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AAD5-BD92-4399-ABE3-7D7C7B40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163-A191-4941-9B3E-5E8FF85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2F12-8859-4FA6-BE75-BC8DAADD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9403-4FB0-4CA4-A9FF-5C83DF31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F466C-4C84-4F4E-B464-0192C2C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DF1C-293D-45E0-9545-0224DB0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DE31-F186-4939-96D0-92B4CA24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597B-DD04-4166-A8B8-86E10E3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B821-4B78-4B49-8273-FD98E119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86C5-416E-4976-A1CF-30AA119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2D66-F01D-421B-87AD-0438E28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F91E0-6D4C-4D29-B58A-1AFE786F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D4B-9CFA-4E23-A54B-B7E78F5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BE09-62BB-42BE-A8C5-2F11DC6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6EF5-D3DB-4E12-8930-E835939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36C01-5ABC-4F46-B837-71E1018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559A1-860E-4106-8BE0-215DEF2D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5417-49D2-4792-8BD6-86E2F76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2DE7-56D1-4288-9148-16D48B0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699F-5643-4C8E-90DD-5734414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862C-2FAC-4F79-B573-23912CC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050E-94D3-4394-9B3C-9DC3598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190C-9C91-4E3A-912D-0CC5550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3C6-D817-47D8-B725-91962CB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436E-06BD-43F9-BB78-A216D9E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23978-7E13-4DD1-9CD3-008A440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1A8A3-AB4D-460D-B7D0-13C8F90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07B5-A41E-4414-B4FF-45F3A769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99A2-17BD-45C8-BCDD-58EB20E9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34BC-285B-49D2-B934-2F3A18AE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19E9-E8E7-4BC8-B5C1-43CE437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ED08-46EC-4B33-9202-3FAE2E27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0397-DCD7-4B37-8E73-80D0753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51AD-921B-46CA-BDC5-8D9D6FF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52C-06C8-40C4-8CDE-43C932F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DDF4-6852-4211-9D7A-E61F458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4FE6F-C31D-45CF-AD58-0652BAD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F10B-0E77-4A81-AF75-358425C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99D3-CA59-4F19-BF3B-9B10DC2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11B5-D419-4D58-BFCB-D747F2B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18D6D-872A-4C7C-85EB-B5977C8B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1EC4F-FE90-47FF-8359-9563E65C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4E6F9-ABF0-4B8F-B20F-E2BD28F9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6BDCE-2249-46BB-9E2C-3AAC649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93209-B246-4AEA-B31B-7E5BFFB4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4472-BCFD-4E9E-BDD6-F18C4E4AEC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5DAC-F2A5-47DD-8D6D-3FF8760E1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2419-22B3-46E3-8DCE-35D7C1D1A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07E5-68E7-422A-8BB1-2C04FAC82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222-9F4C-4560-8340-A8AC4E4B5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2B2-F261-48E8-82B1-6F221A2CB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5B8-0A4C-4E74-B58E-E4B3651C9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E6C-B988-4EF6-991D-AC23D816E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8551-316B-4928-B0F7-E086989F9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64AA-5CA7-487A-B931-E0580CDA2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6CC-2661-4250-9835-52D12C0BF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883-B49D-4829-AA57-9DFB631F4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8C4-9B83-44EF-94A4-4F70390F7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D30-08C8-429A-99B1-9867C65E9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D4D0-E958-41B0-B858-DA4EBA3BE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1AB5-2A72-4868-A4E3-780D9BCAA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A08D-AEF0-4D06-BEEF-FDC850878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3E57-D2EA-4AF5-86F3-14168F97CB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B2DC-AA5C-41F0-980C-9BFB4BC24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136-B2E4-4D44-9B05-BEF3A0DFF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342-72B8-48DA-9BDA-9E4C0476C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184-F188-43E5-9042-4974BCFF74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716E-FF46-4F8E-9B50-B004C574E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C5A-2CD0-444E-8A65-781547F03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A567-6423-4508-8534-D5C747249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C22-CD48-4DDA-9FE3-CE289746B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9E2-841A-44A2-98E2-B3CDFDF046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6FD-AA88-4029-9707-1B7108B8B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9BB8-6B90-4792-9C60-6A529319E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3B84-FD5B-4BD8-B6DB-0D9F05CDCC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ED2A-CD63-4544-96E2-06121AFFB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5AD-A245-4C29-AD28-D055569CA3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7DA-3977-4C1B-BE0A-36F9622E8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B74-987F-41C4-A15D-0A9C62727B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B1C-1399-4EEE-9CB6-6A63237EB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81B8-552D-4B7F-86F6-1F8341377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067-6B25-4CF2-AA7B-CF560199B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C9C0-C406-4551-871B-09A895F90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2CE0-C137-4D39-90C7-399A3906D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C86-C662-4C49-9B96-0767F5429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7C1B-DF76-40CC-9838-DE8B01153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50F0-4966-4D54-B608-B65880C3D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61800" y="2962440"/>
            <a:ext cx="84204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847800"/>
            <a:ext cx="8791920" cy="5762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76360" y="59356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780000" y="450864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780000" y="515772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90680" y="911160"/>
            <a:ext cx="8162640" cy="558180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7172" descr=""/>
          <p:cNvPicPr/>
          <p:nvPr/>
        </p:nvPicPr>
        <p:blipFill>
          <a:blip r:embed="rId2"/>
          <a:stretch/>
        </p:blipFill>
        <p:spPr>
          <a:xfrm>
            <a:off x="896760" y="1254240"/>
            <a:ext cx="4467240" cy="2504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7173" descr=""/>
          <p:cNvPicPr/>
          <p:nvPr/>
        </p:nvPicPr>
        <p:blipFill>
          <a:blip r:embed="rId3"/>
          <a:stretch/>
        </p:blipFill>
        <p:spPr>
          <a:xfrm>
            <a:off x="755640" y="4191120"/>
            <a:ext cx="3114720" cy="2571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435640" y="180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3994200" y="485460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3851280" y="55450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219240" y="804960"/>
            <a:ext cx="8705520" cy="52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419640" y="52862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572000" y="5300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67560" y="5300640"/>
            <a:ext cx="11808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093080" y="52722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28600" y="890640"/>
            <a:ext cx="8686800" cy="5076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4824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63400" y="174600"/>
            <a:ext cx="7602840" cy="6508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3384360" cy="1008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997360"/>
            <a:ext cx="33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4076640"/>
            <a:ext cx="7129800" cy="1008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284720" y="57913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246" descr=""/>
          <p:cNvPicPr/>
          <p:nvPr/>
        </p:nvPicPr>
        <p:blipFill>
          <a:blip r:embed="rId6"/>
          <a:stretch/>
        </p:blipFill>
        <p:spPr>
          <a:xfrm>
            <a:off x="4775040" y="1738440"/>
            <a:ext cx="354204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76320" y="895320"/>
            <a:ext cx="8991360" cy="5067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755640" y="36734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446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676440" y="1023840"/>
            <a:ext cx="7791120" cy="4810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920" y="1461960"/>
            <a:ext cx="8858160" cy="393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26920" y="365904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32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5:2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